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7EA0-5FAF-4CD2-BD08-7FDB8040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9DCB-E7E8-43BB-991B-FF8E1941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159B-57C8-4DCA-9860-2BF35B39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15F-4E6D-49AD-AEA9-B2DA7C24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3DA8-8C23-4551-87F3-91F12BB7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F4D1-6BFC-4A6D-BC9E-A6B56A5D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2BDE-2F47-4C7E-B22D-54D21C73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10CC-BE5F-4C62-B304-E3C4F06B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4605-2A5F-48D3-9D8D-71531EAE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3B15-486B-4768-A3C8-5807A637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D00A-FE1D-4746-98EE-58E5C1E4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274-B000-4D4C-B51E-DC39F5F0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5794-8875-4F2A-95B6-113C23CD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776F-4011-478F-A400-B804F86B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70B7-0765-484E-BF85-54E16B35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AF16-7825-4648-A5A5-DEC53650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8BD5-4DB6-45A1-BB28-3892E5D3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311D2-3EC4-452A-BE04-EDA6A737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475D-1FEA-4A0E-A74F-47415456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D71C8-301E-44CA-A8DA-56DE6B88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25AC1-FCFA-4032-941C-C3E2AE2A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A79D1-D6C4-4FE8-9C6F-FCC09954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2F2E-366A-46BF-889D-CE15D80E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2450F-1206-49D0-9A21-B190C33F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DE595-5B71-42C2-A6CE-9C8C9F0E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66744-5FB9-4A69-934C-20C70273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3FBCF-1E99-416D-B246-3644767E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A9CE8-952C-4E4D-97C5-EFDB76C2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4BCB5-8E3A-47F4-8EB8-F52B072D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03A99-1A1D-41D7-96B8-18A27EAC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878BC-D3B6-4E32-B6E6-95FE5507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C8483-2CF6-4814-A708-272D2EF8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D7F6B-5E0D-4580-9729-D05890A7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770-7798-471D-8B2F-AE5D68F9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BC495-1EE4-4F97-A88B-576FC8CA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D8AC4-0F91-4161-9DA9-2DD02A87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173C2-80E2-4472-AACD-FA11689E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BA9D6-AB39-40EC-BB9E-0F489A2F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9B6CE-CC64-4650-BA5A-60FE2124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4E99D-FD63-436F-9C49-68799B64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CA701-2B1B-46A9-BF4B-55B155A5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EDBDB-E6D3-4534-97B0-28BEF0E2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ED2C5-8492-4358-8653-772CECEB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084-CA1D-4954-9E64-82EAC9EE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E031-E421-4A33-A074-53858EB4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8080-BC55-4BB5-BC15-D1177FB5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8ECD-82B5-4984-A1C4-14DE86AA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9C84-76F2-4A31-AE1E-469447B0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49E4-3C24-4057-894B-0A7BE9102D9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D666-0469-4AFB-9D07-909A004B64C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375D-B10E-4036-888E-E2332AA3DAE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2A2F-CD50-4669-994C-3EB226D3A58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2d700"/>
                </a:solidFill>
                <a:latin typeface="Times New Roman"/>
              </a:rPr>
              <a:t>Вежба 13</a:t>
            </a:r>
            <a:r>
              <a:rPr b="1" lang="sr-CS" sz="4000" spc="-1" strike="noStrike">
                <a:solidFill>
                  <a:srgbClr val="e2d700"/>
                </a:solidFill>
                <a:latin typeface="Times New Roman"/>
              </a:rPr>
              <a:t>. РОДОСЛОВНА</a:t>
            </a:r>
            <a:br>
              <a:rPr sz="4000"/>
            </a:br>
            <a:br>
              <a:rPr sz="4000"/>
            </a:br>
            <a:r>
              <a:rPr b="1" lang="sr-CS" sz="4000" spc="-1" strike="noStrike">
                <a:solidFill>
                  <a:srgbClr val="e2d700"/>
                </a:solidFill>
                <a:latin typeface="Times New Roman"/>
              </a:rPr>
              <a:t> (ГЕНЕАЛОШКА)</a:t>
            </a:r>
            <a:br>
              <a:rPr sz="4000"/>
            </a:br>
            <a:br>
              <a:rPr sz="4000"/>
            </a:br>
            <a:r>
              <a:rPr b="1" lang="sr-CS" sz="4000" spc="-1" strike="noStrike">
                <a:solidFill>
                  <a:srgbClr val="e2d700"/>
                </a:solidFill>
                <a:latin typeface="Times New Roman"/>
              </a:rPr>
              <a:t>СТАБЛ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 u="sng">
                <a:solidFill>
                  <a:srgbClr val="ff0000"/>
                </a:solidFill>
                <a:uFillTx/>
                <a:latin typeface="Times New Roman"/>
              </a:rPr>
              <a:t>Полно-доминантно везано за </a:t>
            </a:r>
            <a:br>
              <a:rPr sz="3600"/>
            </a:br>
            <a:r>
              <a:rPr b="0" lang="sr-Latn-CS" sz="3600" spc="-1" strike="noStrike" u="sng">
                <a:solidFill>
                  <a:srgbClr val="ff0000"/>
                </a:solidFill>
                <a:uFillTx/>
                <a:latin typeface="Times New Roman"/>
              </a:rPr>
              <a:t>X</a:t>
            </a:r>
            <a:r>
              <a:rPr b="0" lang="sr-CS" sz="3600" spc="-1" strike="noStrike" u="sng">
                <a:solidFill>
                  <a:srgbClr val="ff0000"/>
                </a:solidFill>
                <a:uFillTx/>
                <a:latin typeface="Times New Roman"/>
              </a:rPr>
              <a:t> хромозом наслеђивањ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17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минантни алел на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 полном хромозому је узрочник боле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.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хитис резистентан на вит. Д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51920" y="4191120"/>
            <a:ext cx="43434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 једној генерацији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боли отац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 у другој ћер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4114800" y="3581280"/>
          <a:ext cx="480060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581280"/>
                    <a:ext cx="48006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 u="sng">
                <a:solidFill>
                  <a:srgbClr val="ff0000"/>
                </a:solidFill>
                <a:uFillTx/>
                <a:latin typeface="Times New Roman"/>
              </a:rPr>
              <a:t>Наслеђивање везано за </a:t>
            </a:r>
            <a:br>
              <a:rPr sz="3600"/>
            </a:br>
            <a:r>
              <a:rPr b="0" lang="sr-Latn-CS" sz="3600" spc="-1" strike="noStrike" u="sng">
                <a:solidFill>
                  <a:srgbClr val="ff0000"/>
                </a:solidFill>
                <a:uFillTx/>
                <a:latin typeface="Times New Roman"/>
              </a:rPr>
              <a:t>Y</a:t>
            </a:r>
            <a:r>
              <a:rPr b="0" lang="sr-CS" sz="3600" spc="-1" strike="noStrike" u="sng">
                <a:solidFill>
                  <a:srgbClr val="ff0000"/>
                </a:solidFill>
                <a:uFillTx/>
                <a:latin typeface="Times New Roman"/>
              </a:rPr>
              <a:t> хромозо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лел на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полном хромозому је узрочник боле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. ген за длакавост ушију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slide_44"/>
          <p:cNvPicPr/>
          <p:nvPr/>
        </p:nvPicPr>
        <p:blipFill>
          <a:blip r:embed="rId1"/>
          <a:stretch/>
        </p:blipFill>
        <p:spPr>
          <a:xfrm>
            <a:off x="2209680" y="3733920"/>
            <a:ext cx="452916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2"/>
          <p:cNvGraphicFramePr/>
          <p:nvPr/>
        </p:nvGraphicFramePr>
        <p:xfrm>
          <a:off x="5562720" y="2286000"/>
          <a:ext cx="35812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286000"/>
                    <a:ext cx="35812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5562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реба имати податке за што већи број потомака (за 7 генерациј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генерације се означавају римским, а чланови унутар једне генерације арапским бројевима с лева на десн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једну генерацију чине јединке у једном хоризонталном низ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соба која се јавља за савет и од које добијамо податке о осталим члановима породице назива се 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</a:rPr>
              <a:t>ПРОБАНТ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(пропозитус) и означава се стрелицом у родословном стабл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Times New Roman"/>
              </a:rPr>
              <a:t>МЕТОД РОДОСЛОВНИХ СТАБАЛ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sr-CS" sz="4500" spc="-1" strike="noStrike">
                <a:solidFill>
                  <a:srgbClr val="000000"/>
                </a:solidFill>
                <a:latin typeface="Times New Roman"/>
              </a:rPr>
              <a:t>Симболи за </a:t>
            </a:r>
            <a:br>
              <a:rPr sz="4500"/>
            </a:br>
            <a:r>
              <a:rPr b="0" lang="sr-CS" sz="4500" spc="-1" strike="noStrike">
                <a:solidFill>
                  <a:srgbClr val="000000"/>
                </a:solidFill>
                <a:latin typeface="Times New Roman"/>
              </a:rPr>
              <a:t>цртање </a:t>
            </a:r>
            <a:br>
              <a:rPr sz="4500"/>
            </a:br>
            <a:r>
              <a:rPr b="0" lang="sr-CS" sz="4500" spc="-1" strike="noStrike">
                <a:solidFill>
                  <a:srgbClr val="000000"/>
                </a:solidFill>
                <a:latin typeface="Times New Roman"/>
              </a:rPr>
              <a:t>родословног </a:t>
            </a:r>
            <a:br>
              <a:rPr sz="4500"/>
            </a:br>
            <a:r>
              <a:rPr b="0" lang="sr-CS" sz="4500" spc="-1" strike="noStrike">
                <a:solidFill>
                  <a:srgbClr val="000000"/>
                </a:solidFill>
                <a:latin typeface="Times New Roman"/>
              </a:rPr>
              <a:t>стабла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4" descr="03_13"/>
          <p:cNvPicPr/>
          <p:nvPr/>
        </p:nvPicPr>
        <p:blipFill>
          <a:blip r:embed="rId1"/>
          <a:srcRect l="0" t="0" r="0" b="3068"/>
          <a:stretch/>
        </p:blipFill>
        <p:spPr>
          <a:xfrm>
            <a:off x="4800600" y="304920"/>
            <a:ext cx="4138560" cy="64008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04617b"/>
                </a:solidFill>
                <a:latin typeface="Times New Roman"/>
              </a:rPr>
              <a:t>Одговорити на два питањ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0000"/>
                </a:solidFill>
                <a:latin typeface="Times New Roman"/>
              </a:rPr>
              <a:t>Однос оболелих женских и мушких чланова родословног стабла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0000"/>
                </a:solidFill>
                <a:latin typeface="Times New Roman"/>
              </a:rPr>
              <a:t>Да ли се болест јавља у свакој генерацији или прескаче генерације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Times New Roman"/>
              </a:rPr>
              <a:t>1. Однос оболелих женских и мушких чланова родословног стабла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Ако је однос оболелих мушких и женских чланова једнак (1 : 1)  =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e2d700"/>
                </a:solidFill>
                <a:latin typeface="Times New Roman"/>
              </a:rPr>
              <a:t>     </a:t>
            </a:r>
            <a:r>
              <a:rPr b="0" lang="sr-CS" sz="3600" spc="-1" strike="noStrike">
                <a:solidFill>
                  <a:srgbClr val="ff0000"/>
                </a:solidFill>
                <a:latin typeface="Times New Roman"/>
              </a:rPr>
              <a:t>ген је на аутозомном хромозому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Ако однос оболелих мушких и женских чланова није једнак (3 : 1)  =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e2d700"/>
                </a:solidFill>
                <a:latin typeface="Times New Roman"/>
              </a:rPr>
              <a:t>     </a:t>
            </a:r>
            <a:r>
              <a:rPr b="0" lang="sr-CS" sz="3600" spc="-1" strike="noStrike">
                <a:solidFill>
                  <a:srgbClr val="ff0000"/>
                </a:solidFill>
                <a:latin typeface="Times New Roman"/>
              </a:rPr>
              <a:t>ген је на полном хромозому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Times New Roman"/>
              </a:rPr>
              <a:t>2. Да ли се болест јавља у свакој генерацији или прескаче генерације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Ако се болест јавља у свакој генерацији = </a:t>
            </a:r>
            <a:r>
              <a:rPr b="0" lang="sr-CS" sz="3600" spc="-1" strike="noStrike">
                <a:solidFill>
                  <a:srgbClr val="ff0000"/>
                </a:solidFill>
                <a:latin typeface="Times New Roman"/>
              </a:rPr>
              <a:t>наслеђивање је доминантно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Ако болест прескаче генерације = </a:t>
            </a:r>
            <a:r>
              <a:rPr b="0" lang="sr-CS" sz="3600" spc="-1" strike="noStrike">
                <a:solidFill>
                  <a:srgbClr val="ff0000"/>
                </a:solidFill>
                <a:latin typeface="Times New Roman"/>
              </a:rPr>
              <a:t>наслеђивање је рецесивно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 u="sng">
                <a:solidFill>
                  <a:srgbClr val="000000"/>
                </a:solidFill>
                <a:uFillTx/>
                <a:latin typeface="Times New Roman"/>
              </a:rPr>
              <a:t>Аутозомно-доминатни тип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Болест се јавља у свакој генерациј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Једнако обољевају и мушки и женски чланови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пр. полидактилија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3600" spc="-1" strike="noStrike">
                <a:solidFill>
                  <a:srgbClr val="ff0000"/>
                </a:solidFill>
                <a:latin typeface="Times New Roman"/>
              </a:rPr>
              <a:t>АА; Аа-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оболеле особ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3600" spc="-1" strike="noStrike">
                <a:solidFill>
                  <a:srgbClr val="ff0000"/>
                </a:solidFill>
                <a:latin typeface="Times New Roman"/>
              </a:rPr>
              <a:t>аа-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 здраве особ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 u="sng">
                <a:solidFill>
                  <a:srgbClr val="ff0000"/>
                </a:solidFill>
                <a:uFillTx/>
                <a:latin typeface="Times New Roman"/>
              </a:rPr>
              <a:t>Аутозомно-рецесивни тип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Болест прескаче генерациј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Једнако обољевају и мушки и женски чланов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пр. Албинизам и кратковидост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Times New Roman"/>
              </a:rPr>
              <a:t>АА; Аа-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здраве особ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3600" spc="-1" strike="noStrike">
                <a:solidFill>
                  <a:srgbClr val="ff0000"/>
                </a:solidFill>
                <a:latin typeface="Times New Roman"/>
              </a:rPr>
              <a:t>аа-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 оболеле особ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 rot="5400000">
            <a:off x="6063480" y="4071240"/>
            <a:ext cx="22860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 u="sng">
                <a:solidFill>
                  <a:srgbClr val="ff0000"/>
                </a:solidFill>
                <a:uFillTx/>
                <a:latin typeface="Times New Roman"/>
              </a:rPr>
              <a:t>Полно-рецесивно везано за </a:t>
            </a:r>
            <a:br>
              <a:rPr sz="3600"/>
            </a:br>
            <a:r>
              <a:rPr b="0" lang="sr-Latn-CS" sz="3600" spc="-1" strike="noStrike" u="sng">
                <a:solidFill>
                  <a:srgbClr val="ff0000"/>
                </a:solidFill>
                <a:uFillTx/>
                <a:latin typeface="Times New Roman"/>
              </a:rPr>
              <a:t>X</a:t>
            </a:r>
            <a:r>
              <a:rPr b="0" lang="sr-CS" sz="3600" spc="-1" strike="noStrike" u="sng">
                <a:solidFill>
                  <a:srgbClr val="ff0000"/>
                </a:solidFill>
                <a:uFillTx/>
                <a:latin typeface="Times New Roman"/>
              </a:rPr>
              <a:t> хромозом наслеђивањ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Рецесивни алел на </a:t>
            </a:r>
            <a:r>
              <a:rPr b="0" lang="sr-Latn-C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sr-CS" sz="2600" spc="-1" strike="noStrike">
                <a:solidFill>
                  <a:srgbClr val="ff0000"/>
                </a:solidFill>
                <a:latin typeface="Times New Roman"/>
              </a:rPr>
              <a:t> полном хромозому узрочник боле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Чешће обољевају мушкарц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sr-C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sr-Latn-C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хемизиготно испољавање штетног алел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Здрави</a:t>
            </a:r>
            <a:r>
              <a:rPr b="0" lang="sr-CS" sz="2600" spc="-1" strike="noStrike">
                <a:solidFill>
                  <a:srgbClr val="e2d700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мушкарци- </a:t>
            </a:r>
            <a:r>
              <a:rPr b="0" lang="sr-Latn-CS" sz="2600" spc="-1" strike="noStrike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Здраве жене-</a:t>
            </a:r>
            <a:r>
              <a:rPr b="0" lang="sr-Latn-CS" sz="2600" spc="-1" strike="noStrike">
                <a:solidFill>
                  <a:srgbClr val="ff0000"/>
                </a:solidFill>
                <a:latin typeface="Times New Roman"/>
              </a:rPr>
              <a:t>X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Здраве жене преносиоци болести-</a:t>
            </a:r>
            <a:r>
              <a:rPr b="0" lang="sr-Latn-C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sr-C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sr-Latn-C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sr-CS" sz="26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Оболеле жене- </a:t>
            </a:r>
            <a:r>
              <a:rPr b="0" lang="sr-Latn-C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sr-C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sr-Latn-C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sr-CS" sz="2600" spc="-1" strike="noStrike">
                <a:solidFill>
                  <a:srgbClr val="ff0000"/>
                </a:solidFill>
                <a:latin typeface="Times New Roman"/>
              </a:rPr>
              <a:t>*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пр. хемофилија и далтонизам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29:07Z</dcterms:created>
  <dc:creator>prodekan 01</dc:creator>
  <dc:description/>
  <dc:language>en-US</dc:language>
  <cp:lastModifiedBy>Korisnik</cp:lastModifiedBy>
  <dcterms:modified xsi:type="dcterms:W3CDTF">2021-01-28T07:30:26Z</dcterms:modified>
  <cp:revision>158</cp:revision>
  <dc:subject/>
  <dc:title>V-   MEHANIZAM DETERMINACIJE POLA</dc:title>
</cp:coreProperties>
</file>