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167-760D-4DB9-B481-9A9FFAD8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961-AAAC-4FC9-B5AC-6067EDE0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894-4CAC-4E32-8E73-1A3D7DAE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910-EA27-480E-9FE1-3ED66847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AA9A-E7D0-4C5D-9C4D-BB01D3ED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CF35-E9E2-4970-9DCA-83E94AAF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11CA-9677-4C17-B88F-15E97E1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4275-0D78-429E-BF34-717FD0A3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ACE-4FDD-4438-83F0-2B8FCEA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8AA-08C4-43B4-B1A1-623C335E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F5CA-0247-48CA-9B9D-3ABC70D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328-ECE5-499B-B768-9C49292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975E-A92C-45CE-A4F1-9987641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C6A4-8C71-4015-B288-6B298C3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DB8A-0BC0-4A02-B3EB-D51A0D6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640-1013-4580-B4B3-98AA8C9E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CAC1-59AA-4C68-935F-1C4B7E6A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78F1-5C64-4414-B449-C1C3C38B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113B-A60C-4C3A-95CD-07B6EA4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2CE0-1CCE-4BE3-987C-A39532E9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0829-0CB4-446A-A99D-45520698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D0C4-E8C7-43A0-B472-2AE3D435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B82-1EAD-4C29-8468-A10804B1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F01A-99AB-47C6-82EE-F35DDAC1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DB24-3FE1-4EF6-B49D-DE91DD84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2EC7-9072-4E51-B0B2-55A0A71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F755-72F6-45D8-BF64-0BD05A6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3BBC-A8B9-4B85-BC85-0C99AEE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2EE3-5C98-49FA-84BB-7F41AE84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04DC-D842-4C89-B2C5-60C78572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D166-CC25-49B5-9620-31170F02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C971-7DEA-4F68-BF46-F9CF0B4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32E2-9D6E-44C3-B29F-1337DC5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4EA-99BF-4211-A5E1-11B6BC4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B70A-8360-4CF9-8FF0-D402FF8C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3175-0D61-4298-9632-5328AC7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EA56-B945-434D-9EBE-F1AFBB2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A181-AA42-44B6-866C-EF5AFD4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F9F4-BA18-451C-B26D-61A0B43F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E762-A261-47A1-AF0D-7F0EBBA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0324-3A38-4031-A21C-8E1E280B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07BB-D531-463A-A35B-DB820BAD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F7A6-B821-4457-BE76-A4F3F1B9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E08-2E79-4F53-9FFA-99F5107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215-3616-441C-86BB-25BD6EAF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6CB-DD43-4009-8B3F-73D649A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9A1-062F-4F60-B3CE-E356EEB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7DA-2C06-4044-8EB2-D27F2A8B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73C3-B261-4D84-B843-F6E8CEB98F5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B9A-E0DC-4BDA-9411-5FE0A32260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C47-E96B-4DAC-A9CA-744D1A7926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1EB-7973-42A6-90B9-1787CAF03B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212840" y="2859120"/>
            <a:ext cx="7632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5000" spc="-1" strike="noStrike" u="sng">
                <a:solidFill>
                  <a:srgbClr val="04617b"/>
                </a:solidFill>
                <a:uFillTx/>
                <a:latin typeface="Calibri"/>
              </a:rPr>
              <a:t>Y </a:t>
            </a:r>
            <a:r>
              <a:rPr b="0" i="1" lang="sr-CS" sz="5000" spc="-1" strike="noStrike" u="sng">
                <a:solidFill>
                  <a:srgbClr val="04617b"/>
                </a:solidFill>
                <a:uFillTx/>
                <a:latin typeface="Calibri"/>
              </a:rPr>
              <a:t>хромозом-одређује по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4" descr="Ychromosome2"/>
          <p:cNvPicPr/>
          <p:nvPr/>
        </p:nvPicPr>
        <p:blipFill>
          <a:blip r:embed="rId1"/>
          <a:stretch/>
        </p:blipFill>
        <p:spPr>
          <a:xfrm>
            <a:off x="1293840" y="2147760"/>
            <a:ext cx="2066760" cy="3611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572000" y="22096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95% гена на Y хромозому се налази у псеудоаутозомалним региони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Мушкарци имају две копије гена псеудоаутозомалних  региона 1 на Y хром. и 1 у X хр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а Y хром се налази 78 гена који детерминишу продукцију протеина неопходних за све телесне ћелије, а други детерминишу протеине који остварују функције само у тестиси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Ychromosome2"/>
          <p:cNvPicPr/>
          <p:nvPr/>
        </p:nvPicPr>
        <p:blipFill>
          <a:blip r:embed="rId1"/>
          <a:stretch/>
        </p:blipFill>
        <p:spPr>
          <a:xfrm>
            <a:off x="1677960" y="1752480"/>
            <a:ext cx="2187720" cy="38228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7" name=""/>
          <p:cNvSpPr txBox="1"/>
          <p:nvPr/>
        </p:nvSpPr>
        <p:spPr>
          <a:xfrm>
            <a:off x="464652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краку 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региону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 11.3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налази се 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200" spc="-1" strike="noStrike">
                <a:solidFill>
                  <a:srgbClr val="ff0066"/>
                </a:solidFill>
                <a:latin typeface="Constantia"/>
              </a:rPr>
              <a:t>SRY gen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 (sex-determining region Y)-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200" spc="-1" strike="noStrike">
                <a:solidFill>
                  <a:srgbClr val="ff0066"/>
                </a:solidFill>
                <a:latin typeface="Constantia"/>
              </a:rPr>
              <a:t>учествује у диференцијацији тестис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Calibri"/>
              </a:rPr>
              <a:t>Гени на</a:t>
            </a:r>
            <a:r>
              <a:rPr b="0" lang="sr-Latn-CS" sz="5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onstantia"/>
              </a:rPr>
              <a:t>Ген за сперматогенез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onstantia"/>
              </a:rPr>
              <a:t>Ген за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H-Yc </a:t>
            </a:r>
            <a:r>
              <a:rPr b="0" i="1" lang="sr-CS" sz="2600" spc="-1" strike="noStrike">
                <a:solidFill>
                  <a:srgbClr val="000000"/>
                </a:solidFill>
                <a:latin typeface="Constantia"/>
              </a:rPr>
              <a:t>антиген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Ген за ра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Ген за раст зуб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Ген за маскулинизацију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500" spc="-1" strike="noStrike" u="sng">
                <a:solidFill>
                  <a:srgbClr val="04617b"/>
                </a:solidFill>
                <a:uFillTx/>
                <a:latin typeface="Calibri"/>
              </a:rPr>
              <a:t>HY-</a:t>
            </a:r>
            <a:r>
              <a:rPr b="0" lang="sr-CS" sz="4500" spc="-1" strike="noStrike" u="sng">
                <a:solidFill>
                  <a:srgbClr val="04617b"/>
                </a:solidFill>
                <a:uFillTx/>
                <a:latin typeface="Calibri"/>
              </a:rPr>
              <a:t>антиген</a:t>
            </a:r>
            <a:r>
              <a:rPr b="0" lang="en-US" sz="4500" spc="-1" strike="noStrike">
                <a:solidFill>
                  <a:srgbClr val="cc66ff"/>
                </a:solidFill>
                <a:latin typeface="Calibri"/>
              </a:rPr>
              <a:t>-</a:t>
            </a:r>
            <a:r>
              <a:rPr b="0" lang="sr-Latn-C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sr-CS" sz="4500" spc="-1" strike="noStrike">
                <a:solidFill>
                  <a:srgbClr val="04617b"/>
                </a:solidFill>
                <a:latin typeface="Calibri"/>
              </a:rPr>
              <a:t>има улогу у диференцијацији тестис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је фамилија протеина специфичних за пол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Constantia"/>
              </a:rPr>
              <a:t>H-Yt</a:t>
            </a:r>
            <a:r>
              <a:rPr b="0" i="1" lang="en-US" sz="20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i="1" lang="sr-Latn-C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откривен трансплантациј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Constantia"/>
              </a:rPr>
              <a:t>H-Yc</a:t>
            </a:r>
            <a:r>
              <a:rPr b="0" i="1" lang="sr-Latn-CS" sz="20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откривен помоћу цитотоксичних Т лимфоцита, смештен је на 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q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краку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хромоз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Constantia"/>
              </a:rPr>
              <a:t>H-Ys</a:t>
            </a:r>
            <a:r>
              <a:rPr b="0" i="1" lang="sr-Latn-CS" sz="2000" spc="-1" strike="noStrike">
                <a:solidFill>
                  <a:srgbClr val="cc66ff"/>
                </a:solidFill>
                <a:latin typeface="Constantia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одређује се серолошки</a:t>
            </a:r>
            <a:r>
              <a:rPr b="0" i="1" lang="sr-CS" sz="2000" spc="-1" strike="noStrike">
                <a:solidFill>
                  <a:srgbClr val="cc66ff"/>
                </a:solidFill>
                <a:latin typeface="Constantia"/>
              </a:rPr>
              <a:t>,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 Sxs (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за пол специфичан антиген)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sr-Latn-CS" sz="20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i="1" lang="sr-CS" sz="2000" spc="-1" strike="noStrike">
                <a:solidFill>
                  <a:srgbClr val="0070c0"/>
                </a:solidFill>
                <a:latin typeface="Constantia"/>
              </a:rPr>
              <a:t>на хромозому бр </a:t>
            </a:r>
            <a:r>
              <a:rPr b="0" i="1" lang="sr-Latn-CS" sz="2000" spc="-1" strike="noStrike">
                <a:solidFill>
                  <a:srgbClr val="0070c0"/>
                </a:solidFill>
                <a:latin typeface="Constantia"/>
              </a:rPr>
              <a:t>6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код оба пола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али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sr-Latn-CS" sz="2000" spc="-1" strike="noStrike">
                <a:solidFill>
                  <a:srgbClr val="0070c0"/>
                </a:solidFill>
                <a:latin typeface="Constantia"/>
              </a:rPr>
              <a:t>* </a:t>
            </a:r>
            <a:r>
              <a:rPr b="0" i="1" lang="sr-CS" sz="2000" spc="-1" strike="noStrike">
                <a:solidFill>
                  <a:srgbClr val="0070c0"/>
                </a:solidFill>
                <a:latin typeface="Constantia"/>
              </a:rPr>
              <a:t>има </a:t>
            </a: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1000 </a:t>
            </a:r>
            <a:r>
              <a:rPr b="0" lang="sr-CS" sz="2000" spc="-1" strike="noStrike">
                <a:solidFill>
                  <a:srgbClr val="0070c0"/>
                </a:solidFill>
                <a:latin typeface="Constantia"/>
              </a:rPr>
              <a:t>пута већу експресију</a:t>
            </a: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sr-CS" sz="2000" spc="-1" strike="noStrike">
                <a:solidFill>
                  <a:srgbClr val="0070c0"/>
                </a:solidFill>
                <a:latin typeface="Constantia"/>
              </a:rPr>
              <a:t>код мушкараца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nstantia"/>
              </a:rPr>
              <a:t>што је регулисано</a:t>
            </a:r>
            <a:r>
              <a:rPr b="0" i="1" lang="sr-Latn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000" spc="-1" strike="noStrike">
                <a:solidFill>
                  <a:srgbClr val="0070c0"/>
                </a:solidFill>
                <a:latin typeface="Constantia"/>
              </a:rPr>
              <a:t>* SRY </a:t>
            </a:r>
            <a:r>
              <a:rPr b="0" i="1" lang="sr-CS" sz="2000" spc="-1" strike="noStrike">
                <a:solidFill>
                  <a:srgbClr val="0070c0"/>
                </a:solidFill>
                <a:latin typeface="Constantia"/>
              </a:rPr>
              <a:t>геном</a:t>
            </a:r>
            <a:r>
              <a:rPr b="0" i="1" lang="sr-Latn-CS" sz="2000" spc="-1" strike="noStrike">
                <a:solidFill>
                  <a:srgbClr val="0070c0"/>
                </a:solidFill>
                <a:latin typeface="Constantia"/>
              </a:rPr>
              <a:t>* </a:t>
            </a:r>
            <a:r>
              <a:rPr b="0" i="1" lang="sr-CS" sz="2000" spc="-1" strike="noStrike">
                <a:solidFill>
                  <a:srgbClr val="0070c0"/>
                </a:solidFill>
                <a:latin typeface="Constantia"/>
              </a:rPr>
              <a:t>контролише раст плода.</a:t>
            </a:r>
            <a:r>
              <a:rPr b="0" i="1" lang="sr-Latn-CS" sz="2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ff0000"/>
                </a:solidFill>
                <a:uFillTx/>
                <a:latin typeface="Calibri"/>
              </a:rPr>
              <a:t>X </a:t>
            </a:r>
            <a:r>
              <a:rPr b="1" lang="sr-CS" sz="5000" spc="-1" strike="noStrike" u="sng">
                <a:solidFill>
                  <a:srgbClr val="ff0000"/>
                </a:solidFill>
                <a:uFillTx/>
                <a:latin typeface="Calibri"/>
              </a:rPr>
              <a:t>хромоз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Најзначајнији региони који имају улогу у диференцијацији оваријума су </a:t>
            </a:r>
            <a:r>
              <a:rPr b="0" lang="sr-Latn-CS" sz="2000" spc="-1" strike="noStrike">
                <a:solidFill>
                  <a:srgbClr val="ff0000"/>
                </a:solidFill>
                <a:latin typeface="Constantia"/>
              </a:rPr>
              <a:t>Xq13 и Xq21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sr-Latn-CS" sz="2000" spc="-1" strike="noStrike">
                <a:solidFill>
                  <a:srgbClr val="ff0000"/>
                </a:solidFill>
                <a:latin typeface="Constantia"/>
              </a:rPr>
              <a:t>DSS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одговоран за диференцијацију пола)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вострука доза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DSS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активном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супримира дејство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S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DS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кодира једарни рецептор за  хормо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D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S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D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D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ЕСТИС    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ОВАРИЈУ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И аутозомни хромозоми носе гене за диференцијацију пола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nstantia"/>
              </a:rPr>
              <a:t>WT1 - 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onstantia"/>
              </a:rPr>
              <a:t> 11p1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nstantia"/>
              </a:rPr>
              <a:t>SF1-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onstantia"/>
              </a:rPr>
              <a:t> 9q3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nstantia"/>
              </a:rPr>
              <a:t>SOX9 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onstantia"/>
              </a:rPr>
              <a:t> 17q24-2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9dd9"/>
                </a:solidFill>
                <a:latin typeface="Calibri"/>
              </a:rPr>
              <a:t>Реверзије по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Constantia"/>
              </a:rPr>
              <a:t>XX- </a:t>
            </a:r>
            <a:r>
              <a:rPr b="1" lang="sr-CS" sz="2100" spc="-1" strike="noStrike" u="sng">
                <a:solidFill>
                  <a:srgbClr val="000000"/>
                </a:solidFill>
                <a:uFillTx/>
                <a:latin typeface="Constantia"/>
              </a:rPr>
              <a:t>фе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н</a:t>
            </a:r>
            <a:r>
              <a:rPr b="1" lang="sr-CS" sz="2100" spc="-1" strike="noStrike" u="sng">
                <a:solidFill>
                  <a:srgbClr val="000000"/>
                </a:solidFill>
                <a:uFillTx/>
                <a:latin typeface="Constantia"/>
              </a:rPr>
              <a:t>отип мушк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onstantia"/>
              </a:rPr>
              <a:t>Учесталост </a:t>
            </a:r>
            <a:r>
              <a:rPr b="0" lang="sr-Latn-CS" sz="2100" spc="-1" strike="noStrike">
                <a:solidFill>
                  <a:srgbClr val="000000"/>
                </a:solidFill>
                <a:latin typeface="Constantia"/>
              </a:rPr>
              <a:t>1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Latn-CS" sz="2100" spc="-1" strike="noStrike">
                <a:solidFill>
                  <a:srgbClr val="000000"/>
                </a:solidFill>
                <a:latin typeface="Constantia"/>
              </a:rPr>
              <a:t> 20 000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новорођенчад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Ниже су висине и имају тестисе</a:t>
            </a:r>
            <a:r>
              <a:rPr b="0" lang="sr-CS" sz="21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Узрок може да буде неправилни кросинг-овер између X и 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900" spc="-1" strike="noStrike">
                <a:solidFill>
                  <a:srgbClr val="000000"/>
                </a:solidFill>
                <a:latin typeface="Constantia"/>
              </a:rPr>
              <a:t>На кратком краку X који је наслеђен од оца присутна је секвенца Y хром. која садржи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1900" spc="-1" strike="noStrike">
                <a:solidFill>
                  <a:srgbClr val="009dd9"/>
                </a:solidFill>
                <a:latin typeface="Arial"/>
                <a:ea typeface="Arial"/>
              </a:rPr>
              <a:t>SRY </a:t>
            </a:r>
            <a:r>
              <a:rPr b="0" i="1" lang="sr-Latn-CS" sz="1900" spc="-1" strike="noStrike">
                <a:solidFill>
                  <a:srgbClr val="000000"/>
                </a:solidFill>
                <a:latin typeface="Constantia"/>
              </a:rPr>
              <a:t>ген (преко 80%)што је последица неправилног к.о. између X и 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sr-Latn-CS" sz="1900" spc="-1" strike="noStrike">
                <a:solidFill>
                  <a:srgbClr val="000000"/>
                </a:solidFill>
                <a:latin typeface="Constantia"/>
              </a:rPr>
              <a:t>Код 15-20% није утврђена секвенца </a:t>
            </a:r>
            <a:r>
              <a:rPr b="0" i="1" lang="sr-Latn-CS" sz="1900" spc="-1" strike="noStrike">
                <a:solidFill>
                  <a:srgbClr val="009dd9"/>
                </a:solidFill>
                <a:latin typeface="Arial"/>
                <a:ea typeface="Arial"/>
              </a:rPr>
              <a:t>SRY</a:t>
            </a:r>
            <a:r>
              <a:rPr b="1" i="1" lang="sr-Latn-CS" sz="1900" spc="-1" strike="noStrike">
                <a:solidFill>
                  <a:srgbClr val="000000"/>
                </a:solidFill>
                <a:latin typeface="Constantia"/>
              </a:rPr>
              <a:t>, а сматра се да је последица мутације на аутозомном хромозому</a:t>
            </a:r>
            <a:r>
              <a:rPr b="0" i="1" lang="sr-Latn-C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x-y"/>
          <p:cNvPicPr/>
          <p:nvPr/>
        </p:nvPicPr>
        <p:blipFill>
          <a:blip r:embed="rId1"/>
          <a:stretch/>
        </p:blipFill>
        <p:spPr>
          <a:xfrm>
            <a:off x="990720" y="1219320"/>
            <a:ext cx="3286080" cy="50702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29" name=""/>
          <p:cNvSpPr txBox="1"/>
          <p:nvPr/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рмално се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к.о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шава међу псеудоаутозомалним регионима X и Y х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Неправилним  к. о. SRY ген пре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ђе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на X хром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Calibri"/>
              </a:rPr>
              <a:t>45,XO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 мушкарц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Мали број особа до данас има ову реверз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1. Може настати као последица мозаициз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2. Код осталих је детектована секвенца Y хромозома на аутозому, а никада на X. Последица је транслокације између Y и кратких секвенци аутозом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Ако је транслокацијом обухваћен акроцентрик и само SRY ген нема сперматогенез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Times New Roman"/>
              </a:rPr>
              <a:t>XY</a:t>
            </a: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Times New Roman"/>
              </a:rPr>
              <a:t>Ж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лози настанка реверзије су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RY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делеција или тачкаста мут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x DSS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дупликација  и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X9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деле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ГОНАД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оваријум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ПОЛНИ ОДВО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женс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ФЕНОТИ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женск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меноре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стерил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4617b"/>
                </a:solidFill>
                <a:uFillTx/>
                <a:latin typeface="Calibri"/>
              </a:rPr>
              <a:t>Полност-диференцијација јединки на јединке му</a:t>
            </a:r>
            <a:r>
              <a:rPr b="0" i="1" lang="sr-Latn-CS" sz="3400" spc="-1" strike="noStrike" u="sng">
                <a:solidFill>
                  <a:srgbClr val="04617b"/>
                </a:solidFill>
                <a:uFillTx/>
                <a:latin typeface="Calibri"/>
              </a:rPr>
              <a:t>шког и женског пола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Човек има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сингамни –дрозофила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механизам детерминације пол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(пол потомка зависи од комбинације полних хромозом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X-женски по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Y-мушки по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Calibri"/>
              </a:rPr>
              <a:t>ХЕРМАФРОДИТИЗАМ</a:t>
            </a:r>
            <a:br>
              <a:rPr sz="4500"/>
            </a:br>
            <a:r>
              <a:rPr b="1" lang="sr-Latn-CS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4500" spc="-1" strike="noStrike">
                <a:solidFill>
                  <a:srgbClr val="000000"/>
                </a:solidFill>
                <a:latin typeface="Calibri"/>
              </a:rPr>
              <a:t>двополност код људи</a:t>
            </a:r>
            <a:r>
              <a:rPr b="0" lang="sr-Latn-CS" sz="23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2971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0000"/>
                </a:solidFill>
                <a:latin typeface="Constantia"/>
              </a:rPr>
              <a:t>1.  </a:t>
            </a:r>
            <a:r>
              <a:rPr b="0" lang="sr-CS" sz="3900" spc="-1" strike="noStrike" u="sng">
                <a:solidFill>
                  <a:srgbClr val="000000"/>
                </a:solidFill>
                <a:uFillTx/>
                <a:latin typeface="Constantia"/>
              </a:rPr>
              <a:t>Прави хермафродитизам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sr-CS" sz="3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3400" spc="-1" strike="noStrike" u="sng">
                <a:solidFill>
                  <a:srgbClr val="000000"/>
                </a:solidFill>
                <a:uFillTx/>
                <a:latin typeface="Constantia"/>
              </a:rPr>
              <a:t>Псеудо хермафродитизам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sr-Latn-CS" sz="3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500" spc="-1" strike="noStrike">
                <a:solidFill>
                  <a:srgbClr val="009dd9"/>
                </a:solidFill>
                <a:latin typeface="Times New Roman"/>
              </a:rPr>
              <a:t>ПРАВИ ХЕРМАФРОДИТИЗ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4617b"/>
                </a:solidFill>
                <a:latin typeface="Times New Roman"/>
              </a:rPr>
              <a:t>-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ОНАДЕ: оваријум + тестис  (ово-тестис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 ПОЛНИ ОДВОДИ:   мешовит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 СПОЉ.  ПОЛНИ ОРГАНИ:   амбивалентни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(неодре</a:t>
            </a:r>
            <a:r>
              <a:rPr b="0" i="1" lang="sr-CS" sz="26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ен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Constantia"/>
              </a:rPr>
              <a:t>- одгајају се у МУШКОМ  ПОЛ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Constantia"/>
              </a:rPr>
              <a:t>- ХРОМОЗОМСКА КОНСТИТУЦИЈ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X  (60%) 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X/XY,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Organization Chart 6"/>
          <p:cNvGrpSpPr/>
          <p:nvPr/>
        </p:nvGrpSpPr>
        <p:grpSpPr>
          <a:xfrm>
            <a:off x="2351520" y="1681560"/>
            <a:ext cx="4595040" cy="2934360"/>
            <a:chOff x="2351520" y="1681560"/>
            <a:chExt cx="4595040" cy="2934360"/>
          </a:xfrm>
        </p:grpSpPr>
        <p:cxnSp>
          <p:nvCxnSpPr>
            <p:cNvPr id="239" name="_s1028"/>
            <p:cNvCxnSpPr>
              <a:stCxn id="240" idx="1"/>
              <a:endCxn id="241" idx="2"/>
            </p:cNvCxnSpPr>
            <p:nvPr/>
          </p:nvCxnSpPr>
          <p:spPr>
            <a:xfrm rot="10800000">
              <a:off x="4939200" y="2548800"/>
              <a:ext cx="107280" cy="17586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42" name="_s1029"/>
            <p:cNvCxnSpPr>
              <a:stCxn id="243" idx="1"/>
              <a:endCxn id="241" idx="2"/>
            </p:cNvCxnSpPr>
            <p:nvPr/>
          </p:nvCxnSpPr>
          <p:spPr>
            <a:xfrm rot="10800000">
              <a:off x="4939200" y="2548800"/>
              <a:ext cx="107280" cy="1069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44" name="_s1030"/>
            <p:cNvCxnSpPr>
              <a:stCxn id="245" idx="1"/>
              <a:endCxn id="241" idx="2"/>
            </p:cNvCxnSpPr>
            <p:nvPr/>
          </p:nvCxnSpPr>
          <p:spPr>
            <a:xfrm rot="10800000">
              <a:off x="4939200" y="2548800"/>
              <a:ext cx="107280" cy="3808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46" name="_s1031"/>
            <p:cNvCxnSpPr>
              <a:stCxn id="247" idx="1"/>
              <a:endCxn id="248" idx="2"/>
            </p:cNvCxnSpPr>
            <p:nvPr/>
          </p:nvCxnSpPr>
          <p:spPr>
            <a:xfrm rot="10800000">
              <a:off x="2818440" y="2548800"/>
              <a:ext cx="109800" cy="17586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49" name="_s1032"/>
            <p:cNvCxnSpPr>
              <a:stCxn id="250" idx="1"/>
              <a:endCxn id="248" idx="2"/>
            </p:cNvCxnSpPr>
            <p:nvPr/>
          </p:nvCxnSpPr>
          <p:spPr>
            <a:xfrm rot="10800000">
              <a:off x="2818440" y="2548800"/>
              <a:ext cx="109800" cy="1069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1" name="_s1033"/>
            <p:cNvCxnSpPr>
              <a:stCxn id="252" idx="1"/>
              <a:endCxn id="248" idx="2"/>
            </p:cNvCxnSpPr>
            <p:nvPr/>
          </p:nvCxnSpPr>
          <p:spPr>
            <a:xfrm rot="10800000">
              <a:off x="2818440" y="2548800"/>
              <a:ext cx="109800" cy="3808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3" name="_s1034"/>
            <p:cNvCxnSpPr>
              <a:stCxn id="241" idx="0"/>
              <a:endCxn id="254" idx="2"/>
            </p:cNvCxnSpPr>
            <p:nvPr/>
          </p:nvCxnSpPr>
          <p:spPr>
            <a:xfrm flipV="1" rot="16200000">
              <a:off x="4757400" y="1993680"/>
              <a:ext cx="72360" cy="292680"/>
            </a:xfrm>
            <a:prstGeom prst="bentConnector3">
              <a:avLst>
                <a:gd name="adj1" fmla="val 485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5" name="_s1035"/>
            <p:cNvCxnSpPr>
              <a:stCxn id="248" idx="0"/>
              <a:endCxn id="254" idx="2"/>
            </p:cNvCxnSpPr>
            <p:nvPr/>
          </p:nvCxnSpPr>
          <p:spPr>
            <a:xfrm flipH="1" flipV="1" rot="5400000">
              <a:off x="3697200" y="1225440"/>
              <a:ext cx="72360" cy="1829160"/>
            </a:xfrm>
            <a:prstGeom prst="bentConnector3">
              <a:avLst>
                <a:gd name="adj1" fmla="val 485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54" name="_s1036"/>
            <p:cNvSpPr/>
            <p:nvPr/>
          </p:nvSpPr>
          <p:spPr>
            <a:xfrm>
              <a:off x="3137400" y="1681560"/>
              <a:ext cx="3020400" cy="42300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ffffcc"/>
                  </a:solidFill>
                  <a:latin typeface="Arial Black"/>
                </a:rPr>
                <a:t>псеудохермафродитизам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_s1037"/>
            <p:cNvSpPr/>
            <p:nvPr/>
          </p:nvSpPr>
          <p:spPr>
            <a:xfrm>
              <a:off x="2351520" y="2176560"/>
              <a:ext cx="935280" cy="372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ffffff"/>
                  </a:solidFill>
                  <a:latin typeface="Arial Black"/>
                </a:rPr>
                <a:t>мушк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_s1038"/>
            <p:cNvSpPr/>
            <p:nvPr/>
          </p:nvSpPr>
          <p:spPr>
            <a:xfrm>
              <a:off x="4469400" y="2176560"/>
              <a:ext cx="935280" cy="3729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Tahoma"/>
                </a:rPr>
                <a:t>женск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_s1039"/>
            <p:cNvSpPr/>
            <p:nvPr/>
          </p:nvSpPr>
          <p:spPr>
            <a:xfrm>
              <a:off x="2928240" y="2621520"/>
              <a:ext cx="1899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17b"/>
                  </a:solidFill>
                  <a:latin typeface="Arial Black"/>
                </a:rPr>
                <a:t>XY, XY/X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_s1040"/>
            <p:cNvSpPr/>
            <p:nvPr/>
          </p:nvSpPr>
          <p:spPr>
            <a:xfrm>
              <a:off x="2928240" y="3310560"/>
              <a:ext cx="1899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4617b"/>
                  </a:solidFill>
                  <a:latin typeface="Tahoma"/>
                </a:rPr>
                <a:t>тестис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_s1041"/>
            <p:cNvSpPr/>
            <p:nvPr/>
          </p:nvSpPr>
          <p:spPr>
            <a:xfrm>
              <a:off x="2928240" y="3999240"/>
              <a:ext cx="1899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мбивалентн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пољ. полни орган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_s1042"/>
            <p:cNvSpPr/>
            <p:nvPr/>
          </p:nvSpPr>
          <p:spPr>
            <a:xfrm>
              <a:off x="5046480" y="2621520"/>
              <a:ext cx="190008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617b"/>
                  </a:solidFill>
                  <a:latin typeface="Arial Black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_s1043"/>
            <p:cNvSpPr/>
            <p:nvPr/>
          </p:nvSpPr>
          <p:spPr>
            <a:xfrm>
              <a:off x="5046480" y="3310560"/>
              <a:ext cx="190008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600" spc="-1" strike="noStrike">
                  <a:solidFill>
                    <a:srgbClr val="04617b"/>
                  </a:solidFill>
                  <a:latin typeface="Arial Black"/>
                </a:rPr>
                <a:t>оваријум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_s1044"/>
            <p:cNvSpPr/>
            <p:nvPr/>
          </p:nvSpPr>
          <p:spPr>
            <a:xfrm>
              <a:off x="5046480" y="3999240"/>
              <a:ext cx="190008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мбивалентн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пољ. полни орган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ff0000"/>
                </a:solidFill>
                <a:uFillTx/>
                <a:latin typeface="Calibri"/>
              </a:rPr>
              <a:t>Барово тело-полни хромат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д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женке сисара имају два X хром., а мужјаци само један не постоји разлика у експресији гена везаних за X хромозом-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дозна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компензација гена.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Мерy Лyон (1961, 1963)-поставил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хипотезу о доз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onstantia"/>
              </a:rPr>
              <a:t>ној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компензацији г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Барр и Бертрам (1949)-Барово тел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Барово тело се јасно види и у интерфазним једрима телесних ћелија же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sr-CS" sz="3400" spc="-1" strike="noStrike" u="sng">
                <a:solidFill>
                  <a:srgbClr val="ff0000"/>
                </a:solidFill>
                <a:uFillTx/>
                <a:latin typeface="Calibri"/>
              </a:rPr>
              <a:t>Закључци хипотезе Мери Лајон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e2d700"/>
                </a:solidFill>
                <a:latin typeface="Constantia"/>
              </a:rPr>
              <a:t>. 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У телесним ћелијама сисара увек је активан само један X хромоз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2.   Неактивни X хромозом потиче било од оца било од мајке у различитим ћелијама истог организм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3.    Инактивација X хром. настаје у раном ембрионалном развићу и све ћелије које воде порекло од те ћелије имају исти активан или неактиван X хромозом.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100" spc="-1" strike="noStrike">
                <a:solidFill>
                  <a:srgbClr val="000000"/>
                </a:solidFill>
                <a:latin typeface="Calibri"/>
              </a:rPr>
              <a:t>Микроскопски препарати 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</a:rPr>
              <a:t>интерфазе </a:t>
            </a:r>
            <a:r>
              <a:rPr b="0" i="1" lang="sr-Latn-CS" sz="3100" spc="-1" strike="noStrike">
                <a:solidFill>
                  <a:srgbClr val="000000"/>
                </a:solidFill>
                <a:latin typeface="Calibri"/>
              </a:rPr>
              <a:t>телесних ћелија људи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RS" sz="3100" spc="-1" strike="noStrike">
                <a:solidFill>
                  <a:srgbClr val="000000"/>
                </a:solidFill>
                <a:latin typeface="Calibri"/>
              </a:rPr>
              <a:t>стрелице показују Барово тело)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5" descr="Barr_Bodies"/>
          <p:cNvPicPr/>
          <p:nvPr/>
        </p:nvPicPr>
        <p:blipFill>
          <a:blip r:embed="rId1"/>
          <a:stretch/>
        </p:blipFill>
        <p:spPr>
          <a:xfrm>
            <a:off x="0" y="2286000"/>
            <a:ext cx="9194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ff0000"/>
                </a:solidFill>
                <a:uFillTx/>
                <a:latin typeface="Calibri"/>
              </a:rPr>
              <a:t>Недостаци хипотез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Уколико се инактивише цео X хром. не треба да постоји разлика између нормалне жене и жене са Тарнеровим синдром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0000"/>
                </a:solidFill>
                <a:uFillTx/>
                <a:latin typeface="Calibri"/>
              </a:rPr>
              <a:t>М</a:t>
            </a:r>
            <a:r>
              <a:rPr b="0" lang="sr-CS" sz="34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0" lang="en-US" sz="3400" spc="-1" strike="noStrike" u="sng">
                <a:solidFill>
                  <a:srgbClr val="ff0000"/>
                </a:solidFill>
                <a:uFillTx/>
                <a:latin typeface="Calibri"/>
              </a:rPr>
              <a:t>рy Л</a:t>
            </a:r>
            <a:r>
              <a:rPr b="0" lang="sr-CS" sz="3400" spc="-1" strike="noStrike" u="sng">
                <a:solidFill>
                  <a:srgbClr val="ff0000"/>
                </a:solidFill>
                <a:uFillTx/>
                <a:latin typeface="Calibri"/>
              </a:rPr>
              <a:t>ај</a:t>
            </a:r>
            <a:r>
              <a:rPr b="0" lang="en-US" sz="3400" spc="-1" strike="noStrike" u="sng">
                <a:solidFill>
                  <a:srgbClr val="ff0000"/>
                </a:solidFill>
                <a:uFillTx/>
                <a:latin typeface="Calibri"/>
              </a:rPr>
              <a:t>он је 1971. допунила хипотезу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инактивном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хромозому постоји активан регио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ff0000"/>
                </a:solidFill>
                <a:uFillTx/>
                <a:latin typeface="Calibri"/>
              </a:rPr>
              <a:t>Полност код човека</a:t>
            </a: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6816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Генетички пол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(хромозомска конституција зигот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.  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Гонадални пол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(одређен је присуством гона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.  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Фенотипски пол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(спољашња манифестација по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Полни хромозоми </a:t>
            </a:r>
            <a:r>
              <a:rPr b="1" lang="en-US" sz="5000" spc="-1" strike="noStrike">
                <a:solidFill>
                  <a:srgbClr val="ff0066"/>
                </a:solidFill>
                <a:latin typeface="Calibri"/>
              </a:rPr>
              <a:t>X i 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 мејози се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хромозоми пона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шају као хомологи аутозоми, у профази синапсирају, а у анафази се раздвајај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На терминалним деловима X и Y хромозома постоје мали региони који синапсирају, а међу њима се дешава и кросинг-овер, називају се </a:t>
            </a:r>
            <a:r>
              <a:rPr b="1" i="1" lang="sr-Latn-CS" sz="2800" spc="-1" strike="noStrike">
                <a:solidFill>
                  <a:srgbClr val="000000"/>
                </a:solidFill>
                <a:latin typeface="Constantia"/>
              </a:rPr>
              <a:t>псеудоаутозомални регио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y_140"/>
          <p:cNvPicPr/>
          <p:nvPr/>
        </p:nvPicPr>
        <p:blipFill>
          <a:blip r:embed="rId1"/>
          <a:stretch/>
        </p:blipFill>
        <p:spPr>
          <a:xfrm>
            <a:off x="7543800" y="152280"/>
            <a:ext cx="13334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29:07Z</dcterms:created>
  <dc:creator>prodekan 01</dc:creator>
  <dc:description/>
  <dc:language>en-US</dc:language>
  <cp:lastModifiedBy>Korisnik</cp:lastModifiedBy>
  <dcterms:modified xsi:type="dcterms:W3CDTF">2021-01-28T07:30:07Z</dcterms:modified>
  <cp:revision>158</cp:revision>
  <dc:subject/>
  <dc:title>V-   MEHANIZAM DETERMINACIJE POLA</dc:title>
</cp:coreProperties>
</file>